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587-C9EF-4DA6-80EF-2BAB367D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44C-EE5B-4237-85BD-EA4D3738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684-CBCA-494F-A87F-C1BF0A76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714-9125-4D13-BFEA-4F4E8632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8DA7-729B-4866-843A-E1D91875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1149-A5D2-4E85-8B15-807FBF6A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6B53-DAAB-4C5E-B910-9E663510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C984-AC2E-40C7-9364-2B2A686F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3B17-2961-409C-9ABE-961395FB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8654-03E4-4B90-BE73-EC8E062E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D4F0-1114-45C6-A189-232D439A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618-F7E7-4282-B4B0-A13D0780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4EB4-0DDB-443F-A8DE-ED50C0A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407F-37FD-4A30-B546-75A002C1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90F4-3103-49AE-9943-CE44BE27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72D6-B581-4CEA-8C4C-EEA86B7A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E0F1-7F1C-4EB1-8B5B-F058EA51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FB7-90E4-484C-94FF-E89CE820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DA8-A489-4335-99C2-53784290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008-EC33-4B2A-91F5-6FBC2E7C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BB5-45AD-489E-985F-2EA6FFB3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355-748D-4576-BE75-607C720A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E53-BED3-4D40-A4B0-42ED3F2A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881-0132-4CD0-9DF6-1F9946E1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E6EC-AD8A-4717-87F2-EDBDFC275FC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886B-94E0-4EFD-B22B-881BAC92506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evistaescola.abril.com.br/historia/pratica-pedagogica/viagem-tempo-espaco-423238.shtml" TargetMode="External"/><Relationship Id="rId2" Type="http://schemas.openxmlformats.org/officeDocument/2006/relationships/hyperlink" Target="http://revistaescola.abril.com.br/edicoes-impressas/210.s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DIVULGAÇÃO DA PESQUIS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PROJETO: UMA VIAGEM NO TEMPO E NO ESPAÇO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Centro Educacional Sesi 80, em Ribeirão Pires-SP.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Professora: Iara Rodrigues Alho Lopes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Elisabete cano Sabino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CONTEÚDOS : 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As grandes navegações. Modos e costumes do século 16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DESENVOLVIDO NO ANO 4º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TEMPO ESTIMADO</a:t>
            </a: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 - Três mese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MATERIAL NECESSÁRIO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: Relatos de viagens da época, retroprojetor, imagens de caravelas, papel pardo, canetas hidrocor, lápis de cor, pincéis e mapa-múndi, jornais, livros, revistas e interne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ATIVIDADES</a:t>
            </a: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: 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Pesquisa, leitura, desenhos, produção de texto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PRODUTO FINAL :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 Livro com textos escritos pelos aluno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77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o projeto é utilizadas as tecnologias inserindo os alunos e os pais nas atividades de forma prazerosa e educativa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 professora faz uma preparação da turma antes de inserir o projeto, essa atividade é importante para que os alunos se manifestem sobre o tema e fiquem motivados para discutir o assunto.  No  desenvolvimento os alunos conheceram  as grandes navegações do século 16 e a perceberam a dinâmica da história e a transformação das condições de vida e da tecnologia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 projeto poderá ser adaptado a todos os anos do Ensino Fundamental  e  de acordo com o ano  em que o aluno esta inserido o professor aumentará o aprofundamento do enredo da história e da  pesquisa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 projeto foi título de Educadora Nota 10 no Prêmio Victor Civita do ano de 2007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Fonte: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revistaescola.abril.com.br/historia/pratica-pedagogica/viagem-tempo-espaco-423238.shtml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cesso: 31/05/2009 às 13:40 horas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dição revista Escola: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Edição 210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 | 03/2008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7:46:45Z</dcterms:created>
  <dc:creator>sistema</dc:creator>
  <dc:description/>
  <dc:language>en-US</dc:language>
  <cp:lastModifiedBy>sistema</cp:lastModifiedBy>
  <dcterms:modified xsi:type="dcterms:W3CDTF">2009-05-31T18:37:41Z</dcterms:modified>
  <cp:revision>2</cp:revision>
  <dc:subject/>
  <dc:title>DIVULGAÇÃO DA PESQUISA</dc:title>
</cp:coreProperties>
</file>